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B78-5624-4DDB-BAC3-E5A971FB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FE4-36D0-41E6-A41A-3B11EAAF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3F3-A10D-4A3D-9D96-D576361A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987-3D99-4A7E-A447-3D6C1670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9B39-86CD-4B78-9801-16076252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3E42-F7F6-40C5-B147-CFC63C12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59BE-7475-4D0D-B7D7-DE909BF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26B8-A829-40E2-B7AB-5985C208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52C3-0583-4393-B576-8ACE9CA7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5DBF-953B-46ED-A9EF-F39CA21B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31E5-0A22-4B18-BE41-A5E5DFC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B1D-6C8D-4B09-BFB8-E3F421C6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DDC5-BB72-4062-9952-6EBACDDC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9917-0489-435C-9E56-C984EDFA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3F50-CE45-4367-9EF5-E3512AB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990A-2856-41EF-AB2E-8A7811E9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D14B-DD1B-4055-9DD6-4340B89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9DC-2E38-4CBA-B432-D8E54ED3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1A4-A9E0-41BE-99C4-54B8196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4A0-8178-4828-B7CC-BE4D9EF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5DD-4750-4516-A99E-645FF2ED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C57-D52C-44BC-A317-FF41E2B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067-4972-412B-8900-DDC661AF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274-EAB5-4D3C-9F97-FCFA9487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30EA-9D8B-4B04-8165-ED85AD8418C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5786-2AD3-4441-8949-D4F63EF1511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211640" y="189000"/>
            <a:ext cx="792000" cy="30708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76280"/>
            <a:ext cx="244800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 SPEL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836640"/>
            <a:ext cx="42498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ing the last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hould I double the last consonant of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1628640"/>
            <a:ext cx="1441440" cy="44125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8000" y="1628640"/>
            <a:ext cx="3384720" cy="452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he last consona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has 1 syllable an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1 conson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 – s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– b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– stop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a stressed syl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– cont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- begi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- trav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80000" y="1628640"/>
            <a:ext cx="3384720" cy="44125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double the last consonan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 are two vowels or two conson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---wa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l ---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---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syllable is not stress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– visi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-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w , x or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-   sh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– box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- draw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189000"/>
            <a:ext cx="25905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y t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49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chang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9280" y="981000"/>
            <a:ext cx="2232000" cy="2142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 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981000"/>
            <a:ext cx="2376360" cy="214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+change th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 word ends in a consonant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– t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 – car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y  - d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 – fl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92720" y="981000"/>
            <a:ext cx="3240000" cy="192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change i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 in a vowel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– bu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y – s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4000" y="3429000"/>
            <a:ext cx="2232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ing off the final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8360" y="37162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should I take the final e off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005360"/>
            <a:ext cx="2160360" cy="22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00360" y="4076640"/>
            <a:ext cx="2663640" cy="2253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– wr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–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___d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e __ l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80000" y="4076640"/>
            <a:ext cx="2879640" cy="160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__ se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__ b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89000"/>
            <a:ext cx="1584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ng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692280"/>
            <a:ext cx="295272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add 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125360"/>
            <a:ext cx="2232000" cy="4848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197000"/>
            <a:ext cx="3240000" cy="47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ch , s , sh , x  o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ometimes 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__ w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__ box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__ do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__ 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ato __ pot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__ tom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ral exceptions, for exam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__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 __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__ vide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19:37Z</dcterms:created>
  <dc:creator>عبدالله &amp; محمد</dc:creator>
  <dc:description/>
  <dc:language>en-US</dc:language>
  <cp:lastModifiedBy>- </cp:lastModifiedBy>
  <dcterms:modified xsi:type="dcterms:W3CDTF">2007-02-17T15:10:26Z</dcterms:modified>
  <cp:revision>12</cp:revision>
  <dc:subject/>
  <dc:title>الشريحة 1</dc:title>
</cp:coreProperties>
</file>